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652-388D-42C4-A94E-E212EE1A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FE5-8829-49A5-BADD-4A723FCC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528C-8F7C-42BB-9EBF-74FB8CA7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A0E-6E2A-479E-94D5-162BB7A3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494A-1153-4D90-9BD7-7C2BC3BC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4997-51C8-4731-B328-6E1EBF82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FB3B-3697-4D44-AC5B-70DF5E78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498E-8B6E-4A77-95B0-BFAB8FB4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AB99-1E07-42B8-9805-41420A90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3C19-0B37-473B-A29F-BBEDF74A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F7E5-C489-44E9-AE78-48A2A667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8D87-A332-41F8-B15B-AC25C83E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7F6C-3B53-4670-A0EA-E91A1EE9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0CB9-D0C9-4AD2-AF30-B45D26F9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F438-4201-4F8E-9A62-6FC79922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6B46-C660-4977-849F-64B969F1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20B9-800C-433F-8BED-44E6553E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DC0-F5C2-4540-B787-A810D26C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CEA-7EB8-4960-B787-5901E8AC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766F-6DBF-4632-B7AD-3EFBA820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287-93E0-4A6E-A41B-CCAFA8CC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2774-C8F4-4D85-95A6-7B31C96A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E59-2CF3-458C-8F4F-1845AD4D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9299-34E1-4091-9E3A-D675318C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17C7-E208-4595-A894-CC7740496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4382-09D7-4976-B4F2-66B3B6D1E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is looks so cool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2BA3-1A57-4663-AE85-B35F371F69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We desire stability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actually we deman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very unhappy when not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me gov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they really control it that mu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E64D-E776-4B8A-9D51-BA8BAE15E1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Big, big, big budge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year Obama’s budget is $3.6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aralleled amount of power/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an they really do whatever they w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PE for two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only “control” so much spe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it involves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CC8-CF96-42CA-B9FE-2DBBF3EB97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Bad music kills ear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gov’t budget is actually MANDATORY 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concept as ho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like safety 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nly control DISCRE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small portion of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F67-5EC0-411F-8FA3-9CD035A946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Vote them all out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ss has all time low approval rating (positive signs of l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n’t pass bill for emergency unemployment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they agree enough to “fix” the econo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kily we have AUTOMATIC STABIL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9EE-DF4F-41DE-864F-8583F27D3A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Auto pilot w/o sleep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ctions designed to kick in when needed w/o intervention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n recession, what fiscal policies need to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taxes &amp; increase 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happens w/o tr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FDDC-938F-4835-AC12-6D9DD74DFC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ruise Control at 105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economy hurting it need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lose jobs or make less money their taxes go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wise spending pick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eople collect unemployment, food stamp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es down &amp; spending up w/o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works in re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DED-6772-4AA7-8C04-388B3718E5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Still need more help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gov’t to stabilize busines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o so using FISCAL &amp; MONETARY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cal--taxes &amp; 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tary--control of money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R, DR, 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use these guys to put economy where we want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7A7-3BC5-481E-AD41-E830267B3A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Need proof…look at pictur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your ideal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rry, wrong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509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2BD9-AD93-4186-95D8-EE5F6A18F4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What does it look like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C91-2716-40F4-8844-274C4DADF1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LRAS is our goal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marks where we are 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line is our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RAS, potential GDP, natural rate of unemployment, full 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deviation needs fi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CCF-DC13-404B-9373-BE632F46C9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OVERVIEW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it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some gaps &amp; details with those taking the macro AP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ve got the gist of ma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2D3-EAF7-4ED2-A3D8-D3F3BFEC69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Have some choice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ARY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y OVERH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SIONARY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y in a rec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YOU NEED TO DO IS CLOSE THE GAP…HOW HARD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4C1A-7361-4D2B-8B0D-C7ED46DCFA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y are sure try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y are they fai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ctually controls the econom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as they might it is the CONSUMERS who control a larger portion of the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4C1-E7A7-4EEB-B665-62DB6907F8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Still know what to do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b/c they can’t fix it doesn’t mean we don’t know what needs fi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/AD graph shows us what need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FAB-6675-4F9F-BFF3-8379FB165D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Picture of fix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marks where we are…vertical marks where we want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Everything is good; E 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Recessionary Gap; V &gt;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Inflationary Gap; E &gt;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is to get E 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BD6-585A-4601-BDA5-32FEE119C7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Distance is easy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btwn is what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need to stimulate economy by that entire amou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no,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what happens when money is sp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else earns it, who then spends it…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FECF-36C9-49CE-9108-CE787521AA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Same as MS multiplier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thing happens here as creation of money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is earned, spent, earned, spent, earned, spent forever UNLESS IT IS S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ING, NOT SPENDING, MONEY IS ONLY THING TO LIMIT THIS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162-27AC-43B0-9F67-A70909C6EC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APC, APS, MPC, MP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big point of ma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C = average propensity to con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of our income we sp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 = average propensity to s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 of our income we 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ith micro, don’t focus on average but instead MAR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2CE7-A67D-48AC-BEBD-E5F98DADE4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MPC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 propensity to con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given another $, amount that we sp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S:  same thing but amount that we s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PS + MPC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oney is saved or sp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BE2-B5C7-4EFD-928D-8281C69C2D7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Works same as RR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RR is ms multip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s saving money is the same thing as us saving money (limits circulation pro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diture multiplier then be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MPS    or      1(1-M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130-6BFD-4D74-BE74-4516CD4941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Sample Recessio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they want to stimulate the economy $200 b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MPS is .2, how much should the gov’t increase spending to do s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C20-ACC3-4549-87A4-0E368AB455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Start at the Beginn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1 we discussed the role of the gov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they intervene in econom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E THE BUSINES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48A6-703C-4121-AF19-6C7761F228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Spending is Spending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matter whether it is by consumers, gov’t, for investmen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ding counts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taxes work a little bit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does the multiplier when considering ex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9FC-9A7E-4B07-9919-E9B54AC887A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ax Multiplier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gov’t raises taxes they take money we would have spent…but also take money we would have sa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 MULTIPLIER ALWAYS SMALLER THAN SPENDING MULTIP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 money would have been sav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wise if the gov’t reduces taxes some of the money will be sa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7AF-359C-4870-90E1-C8AE0FB7DC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End Resul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reduce the value of the spending multiplier by amount of it actually sp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ding multiplier = 1/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 multiplier = (1/MPS) x M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we spend of the change in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written as MPC/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expressed as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14D-F624-4D3C-BA1C-744A05BEAB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Open Economy Multiplier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save money it leaves our “spending cyc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wise when we buy imports it does the sam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E multiplier then combines effect of both savings &amp; buying im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E = 1 / (MPS + M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1696-CEBB-4AAD-A815-C0C50995BE5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Practic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partner calculate each of the following multipli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ding:  MPC = 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: MPS = 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ding:  MPS = 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:  MPC = 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E:  MPC = .2;  MPi = 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1A07-66C4-46E5-8579-B844E1A75D6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Part 2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fix the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sionary gap of $500 billion…MPC = .10…how much should gov’t increase spen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would they need to cut tax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Pi .1, how much would they need to increase spen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F3A3-2BA8-42AE-A060-6CFCF9D1864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Another way to look at i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nesian 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P as a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nomous spending = necessary regardless of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pe of Consumption Function = M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THE KC BE USED TO EVALUATE WHAT NEEDS TO HAPPEN TO THE ECONO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BD7-5644-47F9-93E3-4BD1956BD85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Bottom Lin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macro 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gov’t’s job (since GP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hey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nfluence do we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ing, velocity of money, M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the dots and you get the whole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264-E932-43F5-8DB0-37F1EC8C14B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How can they tell?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GDP as biggest indic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t a lot of tim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versus nom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GX &amp; WI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, GNP, NDP, NEW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it really mat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A2A9-B565-4BF1-90EA-BB01B65CD2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ool Quot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is charged with caring about all of us together, but none of use on our ow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ssible for them to think about us individ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 is the problems that affect us individually that makes GDP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16F-6A19-4CF5-BE42-2CF1831875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Big 3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6108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ation, unemployment,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partner answe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How do you calculate inf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equation for market basket, CPI, &amp;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Compare the 4 types of unemployment &amp; define the natural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Draw two separate graphs depicting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needs to happen for economy to grow?  What specifically can you do to encourage that growth?  Draw the loanable funds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587-C277-4480-99AE-7559A0D881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se guys matter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’t constantly trying to fight them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ssible to do so simultane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ill you see unemploy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ill you see inf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are typically oppo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C81-75C6-4FCF-8F88-F950D4FC81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New Graph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hillip guy figured i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lips Curve shows tradeoff between th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RPC set at natural rate of unempl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ve a situation in which both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AF6-5FCE-479E-AEEC-00E6165529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Supply Shock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dden changes in AS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go eithe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in gas prices cause favo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disasters cause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hifts to the left…what happ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 go up (inf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goes down (causing reduced output, which means people lose jo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2D6-3E7E-4DFC-9FAC-645FDEAFBC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3:08:32Z</dcterms:created>
  <dc:creator>Lewisburg Area School District</dc:creator>
  <dc:description/>
  <dc:language>en-US</dc:language>
  <cp:lastModifiedBy>Lewisburg Area School District</cp:lastModifiedBy>
  <dcterms:modified xsi:type="dcterms:W3CDTF">2010-03-05T15:17:24Z</dcterms:modified>
  <cp:revision>8</cp:revision>
  <dc:subject/>
  <dc:title>This looks so cool</dc:title>
</cp:coreProperties>
</file>